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2CEE1-3C03-450C-B4C4-69978E759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9"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0"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B8DFF-279C-4304-93F3-BBB340C47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CF3FC-BE95-41D6-BE15-5C199C901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7"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D4B54-2312-4CE4-931C-25E8E0C33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8CACF-2E37-4ED0-9BF1-0C752EDC2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6E3BC-0CA4-4408-A0DB-31C7A6F94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921B9-5307-4FAE-A42A-A97560AF3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FDDDA-D7AC-4430-83BC-C9B79DA19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AB4C5-E2F7-4E97-A748-5EA9D9186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82408-5420-41D4-ABA8-94AD9597E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5A136-00F3-4071-BEBA-CBE986DFC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FDA76-AA70-404E-B51C-43C678770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C34F2-DF39-4C56-8946-8F5C64BC1351}"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6"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Arial"/>
                <a:ea typeface="文鼎中黑"/>
              </a:rPr>
              <a:t>BenQ Confidential (2006/02/10) </a:t>
            </a:r>
            <a:r>
              <a:rPr b="0" lang="en-US" sz="1000" spc="-1" strike="noStrike">
                <a:solidFill>
                  <a:srgbClr val="3a0e66"/>
                </a:solidFill>
                <a:latin typeface="Symbol"/>
                <a:ea typeface="Symbol"/>
              </a:rPr>
              <a:t></a:t>
            </a:r>
            <a:r>
              <a:rPr b="0" lang="en-US" sz="1000" spc="-1" strike="noStrike">
                <a:solidFill>
                  <a:srgbClr val="3a0e66"/>
                </a:solidFill>
                <a:latin typeface="Arial"/>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45800" y="11556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Agenda</a:t>
            </a:r>
            <a:endParaRPr b="1" lang="en-US" sz="3200" spc="-1" strike="noStrike">
              <a:solidFill>
                <a:srgbClr val="3a0e66"/>
              </a:solidFill>
              <a:latin typeface="Minion"/>
            </a:endParaRPr>
          </a:p>
        </p:txBody>
      </p:sp>
      <p:sp>
        <p:nvSpPr>
          <p:cNvPr id="44" name=""/>
          <p:cNvSpPr/>
          <p:nvPr/>
        </p:nvSpPr>
        <p:spPr>
          <a:xfrm>
            <a:off x="179280" y="1243080"/>
            <a:ext cx="8569440" cy="20811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Minion"/>
                <a:ea typeface="文鼎中黑"/>
              </a:rPr>
              <a:t>1. Update on commercial agreement with VF </a:t>
            </a:r>
            <a:endParaRPr b="0" lang="en-US" sz="18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Minion"/>
                <a:ea typeface="文鼎中黑"/>
              </a:rPr>
              <a:t>2. Update on timeline</a:t>
            </a:r>
            <a:endParaRPr b="0" lang="en-US" sz="18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Minion"/>
                <a:ea typeface="文鼎中黑"/>
              </a:rPr>
              <a:t>3. VF concerns around project </a:t>
            </a:r>
            <a:endParaRPr b="0" lang="en-US" sz="18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Minion"/>
                <a:ea typeface="文鼎中黑"/>
              </a:rPr>
              <a:t>3. Action-plan to ensure stock in channel by Oct 14th with min. 5 VF-countries </a:t>
            </a:r>
            <a:endParaRPr b="0" lang="en-US" sz="18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Minion"/>
                <a:ea typeface="文鼎中黑"/>
              </a:rPr>
              <a:t>4. Identify opportunities to improve timelin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9239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rPr>
              <a:t>Vodafone would invest a total of 4.5€ million in the development of the Jerry, which would directly reduce the price of the device to the Vodafone operators. This model (when applied to the commercial agreement already in place) would reduce the net net price from launch until the end of month 3 to 75€ and from the beginning of month 4 to the end of month 6 to 69€. </a:t>
            </a:r>
            <a:br>
              <a:rPr sz="1400"/>
            </a:br>
            <a:br>
              <a:rPr sz="1400"/>
            </a:br>
            <a:r>
              <a:rPr b="1" lang="de-DE" sz="1400" spc="-1" strike="noStrike">
                <a:solidFill>
                  <a:srgbClr val="3a0e66"/>
                </a:solidFill>
                <a:latin typeface="Minion"/>
              </a:rPr>
              <a:t>The NRE payment to BenQ mobile would be equally split in to 3, 1.5€ million installments and will be paid at the following project milestones: </a:t>
            </a:r>
            <a:br>
              <a:rPr sz="1400"/>
            </a:br>
            <a:r>
              <a:rPr b="1" lang="de-DE" sz="1400" spc="-1" strike="noStrike">
                <a:solidFill>
                  <a:srgbClr val="3a0e66"/>
                </a:solidFill>
                <a:latin typeface="Minion"/>
              </a:rPr>
              <a:t>a) 1st payment – upon availability to Vodafone of Jerry B1+ samples (definition of sample to be agreed) </a:t>
            </a:r>
            <a:br>
              <a:rPr sz="1400"/>
            </a:br>
            <a:r>
              <a:rPr b="1" lang="de-DE" sz="1400" spc="-1" strike="noStrike">
                <a:solidFill>
                  <a:srgbClr val="3a0e66"/>
                </a:solidFill>
                <a:latin typeface="Minion"/>
              </a:rPr>
              <a:t>b) 2nd Payment – upon start of acceptance test phase A </a:t>
            </a:r>
            <a:br>
              <a:rPr sz="1400"/>
            </a:br>
            <a:r>
              <a:rPr b="1" lang="de-DE" sz="1400" spc="-1" strike="noStrike">
                <a:solidFill>
                  <a:srgbClr val="3a0e66"/>
                </a:solidFill>
                <a:latin typeface="Minion"/>
              </a:rPr>
              <a:t>c) 3rd payment – upon a mutually agreed level of product acceptance</a:t>
            </a:r>
            <a:br>
              <a:rPr sz="1400"/>
            </a:br>
            <a:br>
              <a:rPr sz="1400"/>
            </a:br>
            <a:r>
              <a:rPr b="1" lang="de-DE" sz="1400" spc="-1" strike="noStrike">
                <a:solidFill>
                  <a:srgbClr val="3a0e66"/>
                </a:solidFill>
                <a:latin typeface="Minion"/>
              </a:rPr>
              <a:t>If BenQ mobile does not achieve milestones, for reasons which BenQ is directly responsible, within an agreed period, Vodafone reserves the right not to pay the NRE for that specific milestone. If the product is not launched before December 31st, VF reserves the right to a full refund on NRE payments made. In any such case the price of the product will increase by 5€ per unit (for both quarters) for every NRE installment (1.5€ million) not paid or refunded.</a:t>
            </a:r>
            <a:br>
              <a:rPr sz="1400"/>
            </a:br>
            <a:r>
              <a:rPr b="1" lang="de-DE" sz="1400" spc="-1" strike="noStrike">
                <a:solidFill>
                  <a:srgbClr val="3a0e66"/>
                </a:solidFill>
                <a:latin typeface="Minion"/>
              </a:rPr>
              <a:t> </a:t>
            </a:r>
            <a:br>
              <a:rPr sz="1400"/>
            </a:br>
            <a:r>
              <a:rPr b="1" lang="de-DE" sz="1400" spc="-1" strike="noStrike">
                <a:solidFill>
                  <a:srgbClr val="3a0e66"/>
                </a:solidFill>
                <a:latin typeface="Minion"/>
              </a:rPr>
              <a:t>Vodafone will commit to purchase a minimum of 150,000 units between launch and 15th January 2006. If for reasons which BenQ mobile is directly responsible for, the product has not been launched by 15th October 2006, BenQ understands that this volume commitment will reduce by 18,000 units per 2 week period (commencing from the 16th October).</a:t>
            </a:r>
            <a:br>
              <a:rPr sz="1400"/>
            </a:br>
            <a:endParaRPr b="1" lang="en-US" sz="1400" spc="-1" strike="noStrike">
              <a:solidFill>
                <a:srgbClr val="3a0e66"/>
              </a:solidFill>
              <a:latin typeface="Minion"/>
            </a:endParaRPr>
          </a:p>
        </p:txBody>
      </p:sp>
      <p:sp>
        <p:nvSpPr>
          <p:cNvPr id="46" name=""/>
          <p:cNvSpPr/>
          <p:nvPr/>
        </p:nvSpPr>
        <p:spPr>
          <a:xfrm>
            <a:off x="135000" y="210960"/>
            <a:ext cx="8182080" cy="519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ea typeface="文鼎中黑"/>
              </a:rPr>
              <a:t>Status Commercial Discussion</a:t>
            </a:r>
            <a:endParaRPr b="0" lang="en-US" sz="3200" spc="-1" strike="noStrike">
              <a:solidFill>
                <a:srgbClr val="000000"/>
              </a:solidFill>
              <a:latin typeface="Times New Roman"/>
            </a:endParaRPr>
          </a:p>
        </p:txBody>
      </p:sp>
      <p:sp>
        <p:nvSpPr>
          <p:cNvPr id="47" name=""/>
          <p:cNvSpPr/>
          <p:nvPr/>
        </p:nvSpPr>
        <p:spPr>
          <a:xfrm>
            <a:off x="406800" y="249228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Minion"/>
                <a:ea typeface="文鼎中黑"/>
              </a:rPr>
              <a:t>*</a:t>
            </a:r>
            <a:endParaRPr b="0" lang="en-US" sz="2800" spc="-1" strike="noStrike">
              <a:solidFill>
                <a:srgbClr val="000000"/>
              </a:solidFill>
              <a:latin typeface="Times New Roman"/>
            </a:endParaRPr>
          </a:p>
        </p:txBody>
      </p:sp>
      <p:sp>
        <p:nvSpPr>
          <p:cNvPr id="48" name=""/>
          <p:cNvSpPr/>
          <p:nvPr/>
        </p:nvSpPr>
        <p:spPr>
          <a:xfrm>
            <a:off x="3143520" y="586260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Minion"/>
                <a:ea typeface="文鼎中黑"/>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3720" y="11412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VF Perception of Project</a:t>
            </a:r>
            <a:endParaRPr b="1" lang="en-US" sz="3200" spc="-1" strike="noStrike">
              <a:solidFill>
                <a:srgbClr val="3a0e66"/>
              </a:solidFill>
              <a:latin typeface="Minion"/>
            </a:endParaRPr>
          </a:p>
        </p:txBody>
      </p:sp>
      <p:sp>
        <p:nvSpPr>
          <p:cNvPr id="50" name=""/>
          <p:cNvSpPr/>
          <p:nvPr/>
        </p:nvSpPr>
        <p:spPr>
          <a:xfrm>
            <a:off x="1332000" y="1268280"/>
            <a:ext cx="698508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inion"/>
                <a:ea typeface="文鼎中黑"/>
              </a:rPr>
              <a:t>“</a:t>
            </a:r>
            <a:r>
              <a:rPr b="0" lang="en-GB" sz="1400" spc="-1" strike="noStrike">
                <a:solidFill>
                  <a:srgbClr val="000000"/>
                </a:solidFill>
                <a:latin typeface="Minion"/>
                <a:ea typeface="文鼎中黑"/>
              </a:rPr>
              <a:t>I don't believe that BenQ is planning the project with the correct attitude and I have very little confidence that we will launch by the agreed date in Octo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inion"/>
                <a:ea typeface="文鼎中黑"/>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inion"/>
                <a:ea typeface="文鼎中黑"/>
              </a:rPr>
              <a:t>“</a:t>
            </a:r>
            <a:r>
              <a:rPr b="0" lang="en-GB" sz="1400" spc="-1" strike="noStrike">
                <a:solidFill>
                  <a:srgbClr val="000000"/>
                </a:solidFill>
                <a:latin typeface="Minion"/>
                <a:ea typeface="文鼎中黑"/>
              </a:rPr>
              <a:t>The current planning indicates that there is zero buffer in the project and your colleagues have even reduced the Vodafone Acceptance Testing by one week in order to hit the date to which BenQ senior management committed at 3GSM.  This suggests that just one unanticipated problem will push the launch past the latest acceptable date of October 13th.”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inion"/>
                <a:ea typeface="文鼎中黑"/>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inion"/>
                <a:ea typeface="文鼎中黑"/>
              </a:rPr>
              <a:t>“</a:t>
            </a:r>
            <a:r>
              <a:rPr b="0" lang="en-GB" sz="1400" spc="-1" strike="noStrike">
                <a:solidFill>
                  <a:srgbClr val="000000"/>
                </a:solidFill>
                <a:latin typeface="Minion"/>
                <a:ea typeface="文鼎中黑"/>
              </a:rPr>
              <a:t>As communicated before, the mid-October launch date is already very late for the Christmas period and key markets such as Vodafone Germany are extremely keen to launch this device much earlier and, if so, they would obviously order more devices from BenQ.  In addition, certain OpCos may not launch the Jerry due to this late delivery da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inion"/>
                <a:ea typeface="文鼎中黑"/>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inion"/>
                <a:ea typeface="文鼎中黑"/>
              </a:rPr>
              <a:t>“</a:t>
            </a:r>
            <a:r>
              <a:rPr b="0" lang="en-GB" sz="1400" spc="-1" strike="noStrike">
                <a:solidFill>
                  <a:srgbClr val="000000"/>
                </a:solidFill>
                <a:latin typeface="Minion"/>
                <a:ea typeface="文鼎中黑"/>
              </a:rPr>
              <a:t>only possible chance of improving a launch date/de-risking the a plan is to invest in shortening the development time.  By the time we begin Pre-Acceptance there will be no opportunity to save tim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inion"/>
                <a:ea typeface="文鼎中黑"/>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9320" y="88560"/>
            <a:ext cx="82947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Drivers to maximise Jerry potential</a:t>
            </a:r>
            <a:endParaRPr b="1" lang="en-US" sz="3200" spc="-1" strike="noStrike">
              <a:solidFill>
                <a:srgbClr val="3a0e66"/>
              </a:solidFill>
              <a:latin typeface="Minion"/>
            </a:endParaRPr>
          </a:p>
        </p:txBody>
      </p:sp>
      <p:sp>
        <p:nvSpPr>
          <p:cNvPr id="52" name="PlaceHolder 2"/>
          <p:cNvSpPr>
            <a:spLocks noGrp="1"/>
          </p:cNvSpPr>
          <p:nvPr>
            <p:ph/>
          </p:nvPr>
        </p:nvSpPr>
        <p:spPr>
          <a:xfrm>
            <a:off x="1187280" y="1638360"/>
            <a:ext cx="6723360" cy="3303360"/>
          </a:xfrm>
          <a:prstGeom prst="rect">
            <a:avLst/>
          </a:prstGeom>
          <a:noFill/>
          <a:ln w="0">
            <a:noFill/>
          </a:ln>
        </p:spPr>
        <p:txBody>
          <a:bodyPr lIns="90000" rIns="90000" tIns="46800" bIns="46800" anchor="t">
            <a:normAutofit/>
          </a:bodyPr>
          <a:p>
            <a:pPr marL="609480" indent="-609480">
              <a:spcBef>
                <a:spcPts val="601"/>
              </a:spcBef>
              <a:buClr>
                <a:srgbClr val="000000"/>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Minion"/>
              </a:rPr>
              <a:t>75€ @ market introduction</a:t>
            </a:r>
            <a:endParaRPr b="0" lang="en-US" sz="2400" spc="-1" strike="noStrike">
              <a:solidFill>
                <a:srgbClr val="3a0e66"/>
              </a:solidFill>
              <a:latin typeface="Minio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609480" indent="-609480">
              <a:spcBef>
                <a:spcPts val="601"/>
              </a:spcBef>
              <a:buClr>
                <a:srgbClr val="000000"/>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Minion"/>
              </a:rPr>
              <a:t>Time to Market:</a:t>
            </a:r>
            <a:endParaRPr b="0" lang="en-US" sz="2400" spc="-1" strike="noStrike">
              <a:solidFill>
                <a:srgbClr val="3a0e66"/>
              </a:solidFill>
              <a:latin typeface="Minion"/>
            </a:endParaRPr>
          </a:p>
          <a:p>
            <a:pPr lvl="1" marL="990720" indent="-533520">
              <a:spcBef>
                <a:spcPts val="499"/>
              </a:spcBef>
              <a:buClr>
                <a:srgbClr val="000000"/>
              </a:buClr>
              <a:buFont typeface="Minio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Minion"/>
              </a:rPr>
              <a:t>Action-plan to ensure stock in channel by Oct 14th with min. 5 VF-countries </a:t>
            </a:r>
            <a:endParaRPr b="0" lang="en-US" sz="2000" spc="-1" strike="noStrike">
              <a:solidFill>
                <a:srgbClr val="3a0e66"/>
              </a:solidFill>
              <a:latin typeface="Minion"/>
            </a:endParaRPr>
          </a:p>
          <a:p>
            <a:pPr lvl="1" marL="990720" indent="-533520">
              <a:spcBef>
                <a:spcPts val="499"/>
              </a:spcBef>
              <a:buClr>
                <a:srgbClr val="000000"/>
              </a:buClr>
              <a:buFont typeface="Minio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Minion"/>
              </a:rPr>
              <a:t>Identify opportunities to improve timeline </a:t>
            </a: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Gary.Vincent</cp:lastModifiedBy>
  <dcterms:modified xsi:type="dcterms:W3CDTF">2006-03-21T10:12:24Z</dcterms:modified>
  <cp:revision>315</cp:revision>
  <dc:subject/>
  <dc:title>PowerPoint 簡報</dc:title>
</cp:coreProperties>
</file>